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1908-A27D-4671-9B2D-EB995B32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FD10-FC26-47DA-9D52-2C9BF073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A772-2757-49C4-A42E-0632DD46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B1E5-400A-45E8-A615-CEA7D18E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5A3-2C20-4DF3-B310-A839AB41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C517-5818-4261-8349-FFE897F2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C088-DB0F-4AEC-9B5B-D1B67813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3227-2F7D-48CE-AB7E-3712A2F7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F039-20FC-4CE2-928D-606F7E2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C58-B2E1-4928-AC23-63BA6C1B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827E-242B-4BE5-8CD8-6187E41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E817-0FFA-4434-BBDD-7FF8C4B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B827-98B8-4B21-AED1-3BF2104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A93F-59FF-4E96-859A-607341C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8098-D0A6-4FEA-A3F2-9E79C42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35D-88B4-4CAB-8CA1-6C916C7B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DE8A-9CF3-46B6-A189-5EFEF372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0FD7-1533-4C56-8658-DB5AF0C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38F7-2CF6-4B1B-8F61-D04C7F22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7282-881B-4BAB-95C8-549D98EA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6558-D2D9-404A-8F10-9EE0474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7F4E-F7E3-4219-AC9E-B730060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62C9-02ED-43DE-A33C-6461F2F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1737-9181-4356-8C42-8F6A773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0E5B-0B27-4456-992C-A22AD9789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6C0-0B23-4F8B-82E2-216A95C577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nting Sli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rou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903240" y="1941480"/>
            <a:ext cx="68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PrintResults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PrintOptions.OutputType= ppPrintOutput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PrintOut From:= 1. To: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2720" y="3770280"/>
            <a:ext cx="77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s you can see from the code, we are going to print out slides 1 through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22:55Z</dcterms:created>
  <dc:creator>jnatale</dc:creator>
  <dc:description/>
  <dc:language>en-US</dc:language>
  <cp:lastModifiedBy>jnatale</cp:lastModifiedBy>
  <dcterms:modified xsi:type="dcterms:W3CDTF">2009-02-19T18:21:41Z</dcterms:modified>
  <cp:revision>2</cp:revision>
  <dc:subject/>
  <dc:title>Printing Slides</dc:title>
</cp:coreProperties>
</file>